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3376-13A9-4DB4-9F8B-4B435656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B41-BA29-40EC-9AA1-CCA3BE60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C0E-4807-43D3-A732-1A6C97C5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FF8-9337-48ED-BC98-B5C432A6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A4B-05F7-4E0E-A66C-E871D994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A6F-F93F-483D-AD37-E402B089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1DC-55A9-4E37-A915-6E58ECFC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C334-B9EF-48AB-9A34-7BE03BF7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9AE-78E9-416E-AF10-F7A5808F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E6A-8CA6-494A-9F35-DFB8F751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3ED-5B3C-44B0-8C08-758D811D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612-A6D1-4936-BA06-C02D4759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BC24-2B68-4308-981A-2A6757827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Analysis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dification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Annual Validatio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46040" y="3929040"/>
            <a:ext cx="6400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8,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5 Annual Validation Approved Modif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45208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and Resident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replace a non-default assignment with a default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ential - Apply Dead-B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HIWR goes to RESLOWR if WR ≤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LOWR goes to RESHIWR if WR &gt;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-Bands do not apply if currently a default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ential - kWh Minim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 numerator &gt; 20 to assign RESHIW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651-CC3A-4833-8706-ACFA18CC78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05280" y="151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 Residential Population Profile ID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urrent Code and Code with Approved 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3720" y="5272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.0% change -- Base Code for ’03 &amp; ’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8% change -- Base Code for ’03 &amp; Approved Changes for ’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4% change -- Approved Changes applied to ’03 &amp; ’04 (Note: ’02 Winter Ratio not available, Dead-Bands applied to all ESI IDs for ’03 calculation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61920" y="974880"/>
            <a:ext cx="633744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1E6-AAA9-4ED7-BF4F-ED7510FCAD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05280" y="151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 Business Population Profile ID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xcluding Business No Demand ESI ID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4705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.1% change -- Base Code for ’03 &amp; ’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.3% change -- Base Code for ’03 &amp; Approved Changes for ’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.6% change -- Approved Changes applied to ’03 &amp; ’04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23760" y="971640"/>
            <a:ext cx="640908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8013-7296-464F-AF98-1794113B47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A. Boren</cp:lastModifiedBy>
  <cp:lastPrinted>2002-05-17T20:57:43Z</cp:lastPrinted>
  <dcterms:modified xsi:type="dcterms:W3CDTF">2005-03-01T22:14:52Z</dcterms:modified>
  <cp:revision>289</cp:revision>
  <dc:subject/>
  <dc:title>Retail Transactions Report</dc:title>
</cp:coreProperties>
</file>